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013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1174680" y="685440"/>
            <a:ext cx="45086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DC28-969D-4A11-AF14-B55A8162C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1F46-4289-42E0-A1D7-C3170871C77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A643-8529-408B-BD44-0E02318F23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1AA1-6E86-41D6-9895-84A767B997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313D-38FD-4C0F-A425-9D103376A2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CCAA-4B63-4F29-A4AA-52B7D9FC59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A10B-B6F0-4E03-9431-56F6078FC4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0BB2-CA10-4388-9CD8-11D355B0B6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005A-3625-4148-A858-992A175224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EF06-F37E-4FEF-9C31-6DE039E253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2EA6-D99E-4808-8AF5-B4A765ECC1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C04B-7BF5-468A-8B70-4F2DB5FF54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3AC1-29A7-4AA6-AE70-181CCB09B5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D075-1D14-444B-B4C1-9C2B0BA266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209F-8C8A-4A9C-829C-D1C886C517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44C2-02E5-4F3E-A419-4A06D2E42D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0720" y="273600"/>
            <a:ext cx="8112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0720" y="1604520"/>
            <a:ext cx="8112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0720" y="3682080"/>
            <a:ext cx="8112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0720" y="273600"/>
            <a:ext cx="8112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0720" y="1604520"/>
            <a:ext cx="3958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8000" y="1604520"/>
            <a:ext cx="3958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0720" y="3682080"/>
            <a:ext cx="3958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08000" y="3682080"/>
            <a:ext cx="3958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720" y="273600"/>
            <a:ext cx="8112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720" y="1604520"/>
            <a:ext cx="2612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93920" y="1604520"/>
            <a:ext cx="2612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7120" y="1604520"/>
            <a:ext cx="2612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0720" y="3682080"/>
            <a:ext cx="2612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193920" y="3682080"/>
            <a:ext cx="2612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937120" y="3682080"/>
            <a:ext cx="2612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BDA1-51FD-41D0-95B7-5BAAD5A7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0720" y="273600"/>
            <a:ext cx="8112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0720" y="1604520"/>
            <a:ext cx="81126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EE5C-E42C-46EF-81B0-28777E8F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720" y="273600"/>
            <a:ext cx="8112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0720" y="1604520"/>
            <a:ext cx="81126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92EA-09C5-43C6-8C6F-3B700015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0720" y="273600"/>
            <a:ext cx="8112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0720" y="1604520"/>
            <a:ext cx="39589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08000" y="1604520"/>
            <a:ext cx="39589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E108-D521-4198-B3AD-5E6E3BAA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0720" y="273600"/>
            <a:ext cx="8112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DDC0-D221-4E3F-8FC7-B7D553B7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0720" y="273600"/>
            <a:ext cx="8112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21D4-4E03-4C13-AD10-14B80A39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720" y="273600"/>
            <a:ext cx="8112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0720" y="1604520"/>
            <a:ext cx="3958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08000" y="1604520"/>
            <a:ext cx="39589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0720" y="3682080"/>
            <a:ext cx="3958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9328-2D9D-474D-B0F1-89AA9989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720" y="273600"/>
            <a:ext cx="8112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0720" y="1604520"/>
            <a:ext cx="81126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0720" y="273600"/>
            <a:ext cx="8112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0720" y="1604520"/>
            <a:ext cx="39589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8000" y="1604520"/>
            <a:ext cx="3958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08000" y="3682080"/>
            <a:ext cx="3958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5960-6141-4A1D-9A4B-2A1322C5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0720" y="273600"/>
            <a:ext cx="8112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0720" y="1604520"/>
            <a:ext cx="3958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8000" y="1604520"/>
            <a:ext cx="3958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0720" y="3682080"/>
            <a:ext cx="8112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55F2-B5BC-482E-A94D-7DC6890E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0720" y="273600"/>
            <a:ext cx="8112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0720" y="1604520"/>
            <a:ext cx="8112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0720" y="3682080"/>
            <a:ext cx="8112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FFF4-04E6-44D9-9687-4737F257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0720" y="273600"/>
            <a:ext cx="8112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0720" y="1604520"/>
            <a:ext cx="3958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8000" y="1604520"/>
            <a:ext cx="3958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720" y="3682080"/>
            <a:ext cx="3958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08000" y="3682080"/>
            <a:ext cx="3958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EB8C-5BC1-49A4-B6B4-904F8BAF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0720" y="273600"/>
            <a:ext cx="8112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0720" y="1604520"/>
            <a:ext cx="2612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93920" y="1604520"/>
            <a:ext cx="2612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37120" y="1604520"/>
            <a:ext cx="2612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0720" y="3682080"/>
            <a:ext cx="2612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193920" y="3682080"/>
            <a:ext cx="2612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937120" y="3682080"/>
            <a:ext cx="2612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8B51-0581-41C6-9427-39EA9CD9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0720" y="273600"/>
            <a:ext cx="8112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0720" y="1604520"/>
            <a:ext cx="81126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0720" y="273600"/>
            <a:ext cx="8112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0720" y="1604520"/>
            <a:ext cx="39589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08000" y="1604520"/>
            <a:ext cx="39589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0720" y="273600"/>
            <a:ext cx="8112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0720" y="273600"/>
            <a:ext cx="8112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720" y="273600"/>
            <a:ext cx="8112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0720" y="1604520"/>
            <a:ext cx="3958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8000" y="1604520"/>
            <a:ext cx="39589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0720" y="3682080"/>
            <a:ext cx="3958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0720" y="273600"/>
            <a:ext cx="8112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0720" y="1604520"/>
            <a:ext cx="39589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000" y="1604520"/>
            <a:ext cx="3958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08000" y="3682080"/>
            <a:ext cx="3958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0720" y="273600"/>
            <a:ext cx="8112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0720" y="1604520"/>
            <a:ext cx="3958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8000" y="1604520"/>
            <a:ext cx="3958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0720" y="3682080"/>
            <a:ext cx="8112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0360" y="6244920"/>
            <a:ext cx="2103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079440" y="6244920"/>
            <a:ext cx="2855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nrico Menduni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461280" y="6244920"/>
            <a:ext cx="2103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D865-BCBC-4DAB-8303-B6500E112C72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asellaDiTesto 2"/>
          <p:cNvSpPr/>
          <p:nvPr/>
        </p:nvSpPr>
        <p:spPr>
          <a:xfrm>
            <a:off x="27000" y="1022400"/>
            <a:ext cx="901548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Arial"/>
              </a:rPr>
              <a:t>Università Roma T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Arial"/>
              </a:rPr>
              <a:t>Corso di laurea magistra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Arial"/>
              </a:rPr>
              <a:t>CINEMA TELEVISIONE E PRODUZIONEMULTIMEDIA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Arial"/>
              </a:rPr>
              <a:t>Corso “Media digitali: Televisione, video, Internet”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Arial"/>
              </a:rPr>
              <a:t>Docente: Enrico Menduni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ffffff"/>
                </a:solidFill>
                <a:latin typeface="Arial"/>
              </a:rPr>
              <a:t>Terza lezione – Sesta Par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Arial"/>
              </a:rPr>
              <a:t>Fibra ottica, ADSL, Wi-F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Arial"/>
              </a:rPr>
              <a:t>21 novembre 201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egnaposto piè di pagina 1"/>
          <p:cNvSpPr/>
          <p:nvPr/>
        </p:nvSpPr>
        <p:spPr>
          <a:xfrm>
            <a:off x="3079800" y="6205680"/>
            <a:ext cx="2855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ffffff"/>
                </a:solidFill>
                <a:latin typeface="Arial"/>
                <a:ea typeface="Arial"/>
              </a:rPr>
              <a:t>Enrico Menduni 20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testataincapa"/>
          <p:cNvPicPr/>
          <p:nvPr/>
        </p:nvPicPr>
        <p:blipFill>
          <a:blip r:embed="rId1"/>
          <a:stretch/>
        </p:blipFill>
        <p:spPr>
          <a:xfrm>
            <a:off x="0" y="47520"/>
            <a:ext cx="9015480" cy="939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CasellaDiTesto 4"/>
          <p:cNvSpPr/>
          <p:nvPr/>
        </p:nvSpPr>
        <p:spPr>
          <a:xfrm>
            <a:off x="888840" y="2349360"/>
            <a:ext cx="7436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L’utenza preme per avere rapido accesso a contenuti multimediali; ma la fibra ottica totale costava troppo per consentir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105.jpg"/>
          <p:cNvPicPr/>
          <p:nvPr/>
        </p:nvPicPr>
        <p:blipFill>
          <a:blip r:embed="rId1"/>
          <a:stretch/>
        </p:blipFill>
        <p:spPr>
          <a:xfrm>
            <a:off x="0" y="0"/>
            <a:ext cx="90154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ttangolo 1"/>
          <p:cNvSpPr/>
          <p:nvPr/>
        </p:nvSpPr>
        <p:spPr>
          <a:xfrm>
            <a:off x="843840" y="1628640"/>
            <a:ext cx="520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ffcc00"/>
                </a:solidFill>
                <a:latin typeface="Andale Mono"/>
              </a:rPr>
              <a:t>SENZA FIL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egnaposto piè di pagina 1"/>
          <p:cNvSpPr/>
          <p:nvPr/>
        </p:nvSpPr>
        <p:spPr>
          <a:xfrm>
            <a:off x="3079800" y="6245280"/>
            <a:ext cx="2855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nrico Menduni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106.jpg"/>
          <p:cNvPicPr/>
          <p:nvPr/>
        </p:nvPicPr>
        <p:blipFill>
          <a:blip r:embed="rId1"/>
          <a:stretch/>
        </p:blipFill>
        <p:spPr>
          <a:xfrm>
            <a:off x="0" y="0"/>
            <a:ext cx="901548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CasellaDiTesto 4"/>
          <p:cNvSpPr/>
          <p:nvPr/>
        </p:nvSpPr>
        <p:spPr>
          <a:xfrm>
            <a:off x="816120" y="907920"/>
            <a:ext cx="8685000" cy="26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I tecnici delle</a:t>
            </a:r>
            <a:br>
              <a:rPr sz="3400"/>
            </a:b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telecomunicazioni si domandavano:  perché </a:t>
            </a:r>
            <a:r>
              <a:rPr b="0" lang="it-IT" sz="3400" spc="-1" strike="noStrike">
                <a:solidFill>
                  <a:srgbClr val="ffcc00"/>
                </a:solidFill>
                <a:latin typeface="Andale Mono"/>
              </a:rPr>
              <a:t>scavare</a:t>
            </a: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 nelle città e </a:t>
            </a:r>
            <a:r>
              <a:rPr b="0" lang="it-IT" sz="3400" spc="-1" strike="noStrike">
                <a:solidFill>
                  <a:srgbClr val="ffcc00"/>
                </a:solidFill>
                <a:latin typeface="Andale Mono"/>
              </a:rPr>
              <a:t>posare costosi cavi,</a:t>
            </a: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 quando potrebbe esserci </a:t>
            </a:r>
            <a:r>
              <a:rPr b="0" lang="it-IT" sz="3400" spc="-1" strike="noStrike">
                <a:solidFill>
                  <a:srgbClr val="ffcc00"/>
                </a:solidFill>
                <a:latin typeface="Andale Mono"/>
              </a:rPr>
              <a:t>una rete senza fili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107.jpg"/>
          <p:cNvPicPr/>
          <p:nvPr/>
        </p:nvPicPr>
        <p:blipFill>
          <a:blip r:embed="rId1"/>
          <a:stretch/>
        </p:blipFill>
        <p:spPr>
          <a:xfrm>
            <a:off x="0" y="0"/>
            <a:ext cx="901548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CasellaDiTesto 4"/>
          <p:cNvSpPr/>
          <p:nvPr/>
        </p:nvSpPr>
        <p:spPr>
          <a:xfrm>
            <a:off x="731880" y="836640"/>
            <a:ext cx="7735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Negli anni </a:t>
            </a:r>
            <a:r>
              <a:rPr b="0" lang="fr-FR" sz="3400" spc="-1" strike="noStrike">
                <a:solidFill>
                  <a:srgbClr val="ffffff"/>
                </a:solidFill>
                <a:latin typeface="Andale Mono"/>
              </a:rPr>
              <a:t>’</a:t>
            </a: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9O è nata </a:t>
            </a:r>
            <a:br>
              <a:rPr sz="3400"/>
            </a:b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la </a:t>
            </a:r>
            <a:r>
              <a:rPr b="0" lang="it-IT" sz="3400" spc="-1" strike="noStrike">
                <a:solidFill>
                  <a:srgbClr val="ffcc00"/>
                </a:solidFill>
                <a:latin typeface="Andale Mono"/>
              </a:rPr>
              <a:t>tecnologia</a:t>
            </a: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 </a:t>
            </a:r>
            <a:r>
              <a:rPr b="0" lang="it-IT" sz="3400" spc="-1" strike="noStrike">
                <a:solidFill>
                  <a:srgbClr val="ffcc00"/>
                </a:solidFill>
                <a:latin typeface="Andale Mono"/>
              </a:rPr>
              <a:t>BlueTooth</a:t>
            </a: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, </a:t>
            </a:r>
            <a:br>
              <a:rPr sz="3400"/>
            </a:b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per connettere senza fili (wireless) il telefonino </a:t>
            </a:r>
            <a:br>
              <a:rPr sz="3400"/>
            </a:b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e le cuffie o la stampante </a:t>
            </a:r>
            <a:br>
              <a:rPr sz="3400"/>
            </a:b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e il computer. Ma essa ha un raggio di </a:t>
            </a:r>
            <a:r>
              <a:rPr b="0" lang="it-IT" sz="3400" spc="-1" strike="noStrike">
                <a:solidFill>
                  <a:srgbClr val="ffcc00"/>
                </a:solidFill>
                <a:latin typeface="Andale Mono"/>
              </a:rPr>
              <a:t>pochi metr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108.jpg"/>
          <p:cNvPicPr/>
          <p:nvPr/>
        </p:nvPicPr>
        <p:blipFill>
          <a:blip r:embed="rId1"/>
          <a:stretch/>
        </p:blipFill>
        <p:spPr>
          <a:xfrm>
            <a:off x="0" y="0"/>
            <a:ext cx="90154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CasellaDiTesto 4"/>
          <p:cNvSpPr/>
          <p:nvPr/>
        </p:nvSpPr>
        <p:spPr>
          <a:xfrm>
            <a:off x="731880" y="1125360"/>
            <a:ext cx="7735680" cy="26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Finalmente il </a:t>
            </a:r>
            <a:r>
              <a:rPr b="0" lang="it-IT" sz="3400" spc="-1" strike="noStrike">
                <a:solidFill>
                  <a:srgbClr val="ffcc00"/>
                </a:solidFill>
                <a:latin typeface="Andale Mono"/>
              </a:rPr>
              <a:t>WI-FI </a:t>
            </a: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permette di </a:t>
            </a:r>
            <a:r>
              <a:rPr b="0" lang="it-IT" sz="3400" spc="-1" strike="noStrike">
                <a:solidFill>
                  <a:srgbClr val="ffcc00"/>
                </a:solidFill>
                <a:latin typeface="Andale Mono"/>
              </a:rPr>
              <a:t>collegarsi ad internet senza fili</a:t>
            </a: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 nell’ambito di una casa, di un ufficio, di una piazza. Esso si diffonde </a:t>
            </a:r>
            <a:r>
              <a:rPr b="0" lang="it-IT" sz="3400" spc="-1" strike="noStrike">
                <a:solidFill>
                  <a:srgbClr val="ffcc00"/>
                </a:solidFill>
                <a:latin typeface="Andale Mono"/>
              </a:rPr>
              <a:t>dopo il 2OOO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CasellaDiTesto 4"/>
          <p:cNvSpPr/>
          <p:nvPr/>
        </p:nvSpPr>
        <p:spPr>
          <a:xfrm>
            <a:off x="706320" y="907920"/>
            <a:ext cx="8096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Con il WI-FI ogni dispositivo connesso a Internet può funzionare da centro (</a:t>
            </a:r>
            <a:r>
              <a:rPr b="0" lang="it-IT" sz="3400" spc="-1" strike="noStrike">
                <a:solidFill>
                  <a:srgbClr val="ffcc00"/>
                </a:solidFill>
                <a:latin typeface="Andale Mono"/>
              </a:rPr>
              <a:t>hotspot</a:t>
            </a: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) di una </a:t>
            </a:r>
            <a:r>
              <a:rPr b="0" lang="it-IT" sz="3400" spc="-1" strike="noStrike">
                <a:solidFill>
                  <a:srgbClr val="ffcc00"/>
                </a:solidFill>
                <a:latin typeface="Andale Mono"/>
              </a:rPr>
              <a:t>rete immateriale </a:t>
            </a: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a cui possono collegarsi altr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mmagine 2" descr="HotSpot.jpg"/>
          <p:cNvPicPr/>
          <p:nvPr/>
        </p:nvPicPr>
        <p:blipFill>
          <a:blip r:embed="rId1"/>
          <a:stretch/>
        </p:blipFill>
        <p:spPr>
          <a:xfrm>
            <a:off x="5083200" y="3429000"/>
            <a:ext cx="3116160" cy="2717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30000"/>
              </a:srgbClr>
            </a:outerShdw>
          </a:effectLst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CasellaDiTesto 4"/>
          <p:cNvSpPr/>
          <p:nvPr/>
        </p:nvSpPr>
        <p:spPr>
          <a:xfrm>
            <a:off x="631800" y="2276640"/>
            <a:ext cx="826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La connessione </a:t>
            </a:r>
            <a:r>
              <a:rPr b="0" lang="it-IT" sz="3400" spc="-1" strike="noStrike">
                <a:solidFill>
                  <a:srgbClr val="ffcc00"/>
                </a:solidFill>
                <a:latin typeface="Andale Mono"/>
              </a:rPr>
              <a:t>senza fili </a:t>
            </a:r>
            <a:br>
              <a:rPr sz="3400"/>
            </a:b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fa </a:t>
            </a:r>
            <a:r>
              <a:rPr b="0" lang="it-IT" sz="3400" spc="-1" strike="noStrike">
                <a:solidFill>
                  <a:srgbClr val="ffcc00"/>
                </a:solidFill>
                <a:latin typeface="Andale Mono"/>
              </a:rPr>
              <a:t>uscire Internet dalle case </a:t>
            </a:r>
            <a:br>
              <a:rPr sz="3400"/>
            </a:b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come il </a:t>
            </a:r>
            <a:r>
              <a:rPr b="0" lang="it-IT" sz="3400" spc="-1" strike="noStrike">
                <a:solidFill>
                  <a:srgbClr val="ffcc00"/>
                </a:solidFill>
                <a:latin typeface="Andale Mono"/>
              </a:rPr>
              <a:t>transistor</a:t>
            </a: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 aveva fatto con la </a:t>
            </a:r>
            <a:r>
              <a:rPr b="0" lang="it-IT" sz="3400" spc="-1" strike="noStrike">
                <a:solidFill>
                  <a:srgbClr val="ffcc00"/>
                </a:solidFill>
                <a:latin typeface="Andale Mono"/>
              </a:rPr>
              <a:t>rad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97.jpg"/>
          <p:cNvPicPr/>
          <p:nvPr/>
        </p:nvPicPr>
        <p:blipFill>
          <a:blip r:embed="rId1"/>
          <a:stretch/>
        </p:blipFill>
        <p:spPr>
          <a:xfrm>
            <a:off x="0" y="0"/>
            <a:ext cx="90154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4"/>
          <p:cNvSpPr/>
          <p:nvPr/>
        </p:nvSpPr>
        <p:spPr>
          <a:xfrm>
            <a:off x="630360" y="1557360"/>
            <a:ext cx="7569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ffcc00"/>
                </a:solidFill>
                <a:latin typeface="Andale Mono"/>
              </a:rPr>
              <a:t>IL MITO </a:t>
            </a:r>
            <a:br>
              <a:rPr sz="6600"/>
            </a:br>
            <a:r>
              <a:rPr b="0" lang="it-IT" sz="6600" spc="-1" strike="noStrike">
                <a:solidFill>
                  <a:srgbClr val="ffcc00"/>
                </a:solidFill>
                <a:latin typeface="Andale Mono"/>
              </a:rPr>
              <a:t>DELLA FIBRA OTT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101.jpg"/>
          <p:cNvPicPr/>
          <p:nvPr/>
        </p:nvPicPr>
        <p:blipFill>
          <a:blip r:embed="rId1"/>
          <a:stretch/>
        </p:blipFill>
        <p:spPr>
          <a:xfrm>
            <a:off x="0" y="0"/>
            <a:ext cx="90154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CasellaDiTesto 4"/>
          <p:cNvSpPr/>
          <p:nvPr/>
        </p:nvSpPr>
        <p:spPr>
          <a:xfrm>
            <a:off x="709560" y="907920"/>
            <a:ext cx="8118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Negli anni Novanta si era pensato di sostituire </a:t>
            </a: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le reti telefoniche </a:t>
            </a:r>
            <a:r>
              <a:rPr b="0" lang="it-IT" sz="3600" spc="-1" strike="noStrike">
                <a:solidFill>
                  <a:srgbClr val="ffcc00"/>
                </a:solidFill>
                <a:latin typeface="Andale Mono"/>
              </a:rPr>
              <a:t>in rame </a:t>
            </a: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con nuovi cavi di </a:t>
            </a:r>
            <a:r>
              <a:rPr b="0" lang="it-IT" sz="3600" spc="-1" strike="noStrike">
                <a:solidFill>
                  <a:srgbClr val="ffcc00"/>
                </a:solidFill>
                <a:latin typeface="Andale Mono"/>
              </a:rPr>
              <a:t>silicio</a:t>
            </a: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 </a:t>
            </a: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a </a:t>
            </a:r>
            <a:r>
              <a:rPr b="0" lang="it-IT" sz="3600" spc="-1" strike="noStrike">
                <a:solidFill>
                  <a:srgbClr val="ffcc00"/>
                </a:solidFill>
                <a:latin typeface="Andale Mono"/>
              </a:rPr>
              <a:t>fibra ot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102.jpg"/>
          <p:cNvPicPr/>
          <p:nvPr/>
        </p:nvPicPr>
        <p:blipFill>
          <a:blip r:embed="rId1"/>
          <a:stretch/>
        </p:blipFill>
        <p:spPr>
          <a:xfrm>
            <a:off x="0" y="0"/>
            <a:ext cx="90154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CasellaDiTesto 4"/>
          <p:cNvSpPr/>
          <p:nvPr/>
        </p:nvSpPr>
        <p:spPr>
          <a:xfrm>
            <a:off x="690480" y="981000"/>
            <a:ext cx="811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I cavi a </a:t>
            </a:r>
            <a:r>
              <a:rPr b="0" lang="it-IT" sz="3600" spc="-1" strike="noStrike">
                <a:solidFill>
                  <a:srgbClr val="ffcc00"/>
                </a:solidFill>
                <a:latin typeface="Andale Mono"/>
              </a:rPr>
              <a:t>fibra ottica</a:t>
            </a: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 </a:t>
            </a: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hanno grande capacità: </a:t>
            </a: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una soluzione </a:t>
            </a:r>
            <a:r>
              <a:rPr b="0" lang="it-IT" sz="3600" spc="-1" strike="noStrike">
                <a:solidFill>
                  <a:srgbClr val="ffcc00"/>
                </a:solidFill>
                <a:latin typeface="Andale Mono"/>
              </a:rPr>
              <a:t>ottimale</a:t>
            </a: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, </a:t>
            </a: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ma eccessivamente </a:t>
            </a:r>
            <a:r>
              <a:rPr b="0" lang="it-IT" sz="3600" spc="-1" strike="noStrike">
                <a:solidFill>
                  <a:srgbClr val="ffcc00"/>
                </a:solidFill>
                <a:latin typeface="Andale Mono"/>
              </a:rPr>
              <a:t>costosa</a:t>
            </a: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 </a:t>
            </a: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e comples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103.jpg"/>
          <p:cNvPicPr/>
          <p:nvPr/>
        </p:nvPicPr>
        <p:blipFill>
          <a:blip r:embed="rId1"/>
          <a:stretch/>
        </p:blipFill>
        <p:spPr>
          <a:xfrm>
            <a:off x="0" y="0"/>
            <a:ext cx="90154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4"/>
          <p:cNvSpPr/>
          <p:nvPr/>
        </p:nvSpPr>
        <p:spPr>
          <a:xfrm>
            <a:off x="700200" y="941400"/>
            <a:ext cx="8118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L’ADSL (Asymmetric Digital Subscriber Line) permette </a:t>
            </a: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di far circolare </a:t>
            </a:r>
            <a:r>
              <a:rPr b="0" lang="it-IT" sz="3600" spc="-1" strike="noStrike">
                <a:solidFill>
                  <a:srgbClr val="ffcc00"/>
                </a:solidFill>
                <a:latin typeface="Andale Mono"/>
              </a:rPr>
              <a:t>grandi quantità </a:t>
            </a: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di dati </a:t>
            </a:r>
            <a:r>
              <a:rPr b="0" lang="it-IT" sz="3600" spc="-1" strike="noStrike">
                <a:solidFill>
                  <a:srgbClr val="ffcc00"/>
                </a:solidFill>
                <a:latin typeface="Andale Mono"/>
              </a:rPr>
              <a:t>sulle reti tradizionali, senza sostituirle</a:t>
            </a: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 con la fibra ot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104.jpg"/>
          <p:cNvPicPr/>
          <p:nvPr/>
        </p:nvPicPr>
        <p:blipFill>
          <a:blip r:embed="rId1"/>
          <a:stretch/>
        </p:blipFill>
        <p:spPr>
          <a:xfrm>
            <a:off x="0" y="0"/>
            <a:ext cx="90154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CasellaDiTesto 4"/>
          <p:cNvSpPr/>
          <p:nvPr/>
        </p:nvSpPr>
        <p:spPr>
          <a:xfrm>
            <a:off x="690480" y="981000"/>
            <a:ext cx="7777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In autostrada il numero di porte in entrata e in uscita</a:t>
            </a:r>
            <a:br>
              <a:rPr sz="3400"/>
            </a:b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è </a:t>
            </a:r>
            <a:r>
              <a:rPr b="0" lang="it-IT" sz="3400" spc="-1" strike="noStrike">
                <a:solidFill>
                  <a:srgbClr val="ffcc00"/>
                </a:solidFill>
                <a:latin typeface="Andale Mono"/>
              </a:rPr>
              <a:t>variabile</a:t>
            </a: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; dipende dal traffico. Così </a:t>
            </a:r>
            <a:r>
              <a:rPr b="0" lang="it-IT" sz="3400" spc="-1" strike="noStrike">
                <a:solidFill>
                  <a:srgbClr val="ffcc00"/>
                </a:solidFill>
                <a:latin typeface="Andale Mono"/>
              </a:rPr>
              <a:t>l’ADSL ripartisce asimmetricamente </a:t>
            </a:r>
            <a:br>
              <a:rPr sz="3400"/>
            </a:b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la capacità del cavo </a:t>
            </a:r>
            <a:r>
              <a:rPr b="0" lang="it-IT" sz="3400" spc="-1" strike="noStrike">
                <a:solidFill>
                  <a:srgbClr val="ffcc00"/>
                </a:solidFill>
                <a:latin typeface="Andale Mono"/>
              </a:rPr>
              <a:t>in ragione del traffico </a:t>
            </a:r>
            <a:r>
              <a:rPr b="0" lang="it-IT" sz="3400" spc="-1" strike="noStrike">
                <a:solidFill>
                  <a:srgbClr val="ffffff"/>
                </a:solidFill>
                <a:latin typeface="Andale Mono"/>
              </a:rPr>
              <a:t>di dat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CasellaDiTesto 4"/>
          <p:cNvSpPr/>
          <p:nvPr/>
        </p:nvSpPr>
        <p:spPr>
          <a:xfrm>
            <a:off x="838080" y="2133720"/>
            <a:ext cx="7502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Le reti telefoniche tradizionali, adatte alle telefonate vocali, non hanno capacità sufficiente per l’accresciuto traffico da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CasellaDiTesto 4"/>
          <p:cNvSpPr/>
          <p:nvPr/>
        </p:nvSpPr>
        <p:spPr>
          <a:xfrm>
            <a:off x="681120" y="907920"/>
            <a:ext cx="764388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Sono soprattutto</a:t>
            </a: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i contenuti multimediali </a:t>
            </a: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a far “scoppiare” le re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ndale Mono"/>
              </a:rPr>
              <a:t>1 pagina di testo </a:t>
            </a:r>
            <a:br>
              <a:rPr sz="3200"/>
            </a:br>
            <a:r>
              <a:rPr b="0" lang="it-IT" sz="3200" spc="-1" strike="noStrike">
                <a:solidFill>
                  <a:srgbClr val="ffffff"/>
                </a:solidFill>
                <a:latin typeface="Andale Mono"/>
              </a:rPr>
              <a:t>= 4O kiloby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ndale Mono"/>
              </a:rPr>
              <a:t>1 immagine = 1OO kiloby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ndale Mono"/>
              </a:rPr>
              <a:t>1 minuto di audio = 1O m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ndale Mono"/>
              </a:rPr>
              <a:t>1 minuto di filmato </a:t>
            </a:r>
            <a:br>
              <a:rPr sz="3200"/>
            </a:br>
            <a:r>
              <a:rPr b="0" lang="it-IT" sz="3200" spc="-1" strike="noStrike">
                <a:solidFill>
                  <a:srgbClr val="ffffff"/>
                </a:solidFill>
                <a:latin typeface="Andale Mono"/>
              </a:rPr>
              <a:t>= 8O m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ndale Mono"/>
              </a:rPr>
              <a:t>1 minuto di filmato HD </a:t>
            </a:r>
            <a:br>
              <a:rPr sz="3200"/>
            </a:br>
            <a:r>
              <a:rPr b="0" lang="it-IT" sz="3200" spc="-1" strike="noStrike">
                <a:solidFill>
                  <a:srgbClr val="ffffff"/>
                </a:solidFill>
                <a:latin typeface="Andale Mono"/>
              </a:rPr>
              <a:t>= 18O m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sellaDiTesto 4"/>
          <p:cNvSpPr/>
          <p:nvPr/>
        </p:nvSpPr>
        <p:spPr>
          <a:xfrm>
            <a:off x="679320" y="2421000"/>
            <a:ext cx="7788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ts val="3600"/>
              </a:lnSpc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1 kylobyte = 1.OOO by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ts val="3600"/>
              </a:lnSpc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1 megabyte = 1 milione </a:t>
            </a: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	</a:t>
            </a: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	</a:t>
            </a: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	</a:t>
            </a: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	</a:t>
            </a:r>
            <a:r>
              <a:rPr b="0" lang="it-IT" sz="3600" spc="-1" strike="noStrike">
                <a:solidFill>
                  <a:srgbClr val="ffffff"/>
                </a:solidFill>
                <a:latin typeface="Andale Mono"/>
              </a:rPr>
              <a:t>  di by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0:07:18Z</dcterms:created>
  <dc:creator>Michis Pilavackis</dc:creator>
  <dc:description/>
  <dc:language>en-US</dc:language>
  <cp:lastModifiedBy>chiara di stefano</cp:lastModifiedBy>
  <dcterms:modified xsi:type="dcterms:W3CDTF">2017-11-23T18:20:30Z</dcterms:modified>
  <cp:revision>446</cp:revision>
  <dc:subject/>
  <dc:title>Slide 1</dc:title>
</cp:coreProperties>
</file>