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227A-8DB3-4F6E-8DEC-1EE9DF068AE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2736-CE0D-4285-8B98-4FF25A0E14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235A-BDBF-4359-8F42-893E302D8B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51A-C15A-4FF3-AE28-26A0ADFAB1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708A-78C6-4E16-889A-5026161D3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0B08-7B66-4009-8A74-C514D98B44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095C-3B58-4C86-8402-65B294FC67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5DDB-E016-478D-B382-68F8DA219E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8222-4FC9-4EC7-AA6D-F4E2073F37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F8AB-7778-4979-B14A-C0979127C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2D6E-AAB3-4366-A394-C39667F3E6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7344-6B26-45B5-8AD0-437E98C882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BC2C-1A0F-4AE0-AF75-9F7CD3E04B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FED1-F11B-449D-A240-DFA2F93BC4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268E-F115-43F2-86CF-98FB2AEB96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BB41-5B71-4985-82A5-9CEF284381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3F4A-18F8-4EAB-9B11-47E6034A5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B03F-21A8-4283-B8D7-BDE8802762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FF41-E0E0-4777-84AF-DDF428BE9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C707-6176-4BB1-8C95-7A2CA0F936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507B-071A-49EB-95C7-F6878371F3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76C3-39B7-45C3-A613-2EE130BD23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934-CE42-4B74-931A-D619A0CC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715-684C-422C-9311-2156C30D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BA1-B920-443E-8DD0-D002F783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7D3-11E7-467E-9BD6-021B625C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8EC-2928-41D2-B0A0-962DB59D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305-7530-4D11-AE4C-4B782FE3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591-452A-49FF-9D19-6A180854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C58-264B-4D3D-8FAE-548BED5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EA4-17F6-4CD3-98D9-2DF5CF94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3CC-83C5-4662-9776-17967402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3D7-CA95-4621-89BA-48354115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260-812E-42C7-B07E-231BB87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17D0-A373-4A4D-8303-B681FDB720E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asellaDiTesto 2"/>
          <p:cNvSpPr/>
          <p:nvPr/>
        </p:nvSpPr>
        <p:spPr>
          <a:xfrm>
            <a:off x="27000" y="987480"/>
            <a:ext cx="91440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iversità Roma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rso di laurea magis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INEMA TELEVISIONE E PRODUZIONEMULTIME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rso “Media digitali: Televisione, video, Internet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ocente: Enrico Mendun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5 lezione – Parte pr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Il Web 2.0 - L’era di Goo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rcoledì 22 novembre 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testataincapa"/>
          <p:cNvPicPr/>
          <p:nvPr/>
        </p:nvPicPr>
        <p:blipFill>
          <a:blip r:embed="rId1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5080" y="189000"/>
            <a:ext cx="8315280" cy="714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cchi motori di ricerca: Infos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Immagine 4" descr="Infoseek home page 1996.jpg"/>
          <p:cNvPicPr/>
          <p:nvPr/>
        </p:nvPicPr>
        <p:blipFill>
          <a:blip r:embed="rId1"/>
          <a:stretch/>
        </p:blipFill>
        <p:spPr>
          <a:xfrm>
            <a:off x="925560" y="1173240"/>
            <a:ext cx="7291440" cy="5072040"/>
          </a:xfrm>
          <a:prstGeom prst="rect">
            <a:avLst/>
          </a:prstGeom>
          <a:ln w="0">
            <a:noFill/>
          </a:ln>
        </p:spPr>
      </p:pic>
      <p:sp>
        <p:nvSpPr>
          <p:cNvPr id="152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-27000"/>
            <a:ext cx="9036000" cy="714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cchi motori di ricerca: Exc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magine 5" descr="Excite home page 1996.JPG"/>
          <p:cNvPicPr/>
          <p:nvPr/>
        </p:nvPicPr>
        <p:blipFill>
          <a:blip r:embed="rId1"/>
          <a:stretch/>
        </p:blipFill>
        <p:spPr>
          <a:xfrm>
            <a:off x="914400" y="824040"/>
            <a:ext cx="7315200" cy="5484600"/>
          </a:xfrm>
          <a:prstGeom prst="rect">
            <a:avLst/>
          </a:prstGeom>
          <a:ln w="0">
            <a:noFill/>
          </a:ln>
        </p:spPr>
      </p:pic>
      <p:sp>
        <p:nvSpPr>
          <p:cNvPr id="155" name="Segnaposto piè di pagina 1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asellaDiTesto 4"/>
          <p:cNvSpPr/>
          <p:nvPr/>
        </p:nvSpPr>
        <p:spPr>
          <a:xfrm>
            <a:off x="639720" y="1122480"/>
            <a:ext cx="811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I siti più importanti del Web 1.0 erano i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portali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: siti ch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semplificavano l’accesso 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alle informazioni,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indirizzando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gli uten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magine 1" descr="Schermata 2014-07-07 a 14.18.52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93640" y="4141800"/>
            <a:ext cx="2997360" cy="1800360"/>
          </a:xfrm>
          <a:prstGeom prst="rect">
            <a:avLst/>
          </a:prstGeom>
          <a:ln w="0">
            <a:noFill/>
          </a:ln>
        </p:spPr>
      </p:pic>
      <p:pic>
        <p:nvPicPr>
          <p:cNvPr id="158" name="Immagine 2" descr="Schermata 2014-07-07 a 14.19.09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587760" y="4149720"/>
            <a:ext cx="2486160" cy="180180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3" descr="Schermata 2014-07-07 a 14.19.01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067440" y="4149720"/>
            <a:ext cx="2538360" cy="18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asellaDiTesto 4"/>
          <p:cNvSpPr/>
          <p:nvPr/>
        </p:nvSpPr>
        <p:spPr>
          <a:xfrm>
            <a:off x="324000" y="189000"/>
            <a:ext cx="8331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Nel Web 2.0 invece gli utenti, ormai esperti, vogliono esplorare la ret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da soli o con le comunità 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di cui sono par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Per i portali comincia l’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obsolescenza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magine 1" descr="Obsolescenza.jpg"/>
          <p:cNvPicPr/>
          <p:nvPr/>
        </p:nvPicPr>
        <p:blipFill>
          <a:blip r:embed="rId1"/>
          <a:stretch/>
        </p:blipFill>
        <p:spPr>
          <a:xfrm>
            <a:off x="2124000" y="3514680"/>
            <a:ext cx="5040360" cy="33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asellaDiTesto 4"/>
          <p:cNvSpPr/>
          <p:nvPr/>
        </p:nvSpPr>
        <p:spPr>
          <a:xfrm>
            <a:off x="797040" y="907920"/>
            <a:ext cx="68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Nel Web 2.0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i motori di ricerca 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aiutano l’utente a cercare quello che gli ser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magine 2" descr="Schermata 2014-07-14 a 06.19.26.png"/>
          <p:cNvPicPr/>
          <p:nvPr/>
        </p:nvPicPr>
        <p:blipFill>
          <a:blip r:embed="rId1"/>
          <a:stretch/>
        </p:blipFill>
        <p:spPr>
          <a:xfrm>
            <a:off x="2773440" y="3213000"/>
            <a:ext cx="3549600" cy="315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asellaDiTesto 4"/>
          <p:cNvSpPr/>
          <p:nvPr/>
        </p:nvSpPr>
        <p:spPr>
          <a:xfrm>
            <a:off x="539640" y="476280"/>
            <a:ext cx="7704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Setacciando il Web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i motori di ricerca 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trovano l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corrispondenze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di una parola o frase indicata dall’uten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La ricerca avviene attraverso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parole chiave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, di cui il motore di ricerca individua l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ricorrenz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asellaDiTesto 4"/>
          <p:cNvSpPr/>
          <p:nvPr/>
        </p:nvSpPr>
        <p:spPr>
          <a:xfrm>
            <a:off x="755640" y="2205000"/>
            <a:ext cx="80946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Usando le parole chiave (“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indicizzando un contenuto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”) esso risulta assai più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visibile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dai motori di ricerc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asellaDiTesto 4"/>
          <p:cNvSpPr/>
          <p:nvPr/>
        </p:nvSpPr>
        <p:spPr>
          <a:xfrm>
            <a:off x="755640" y="2205000"/>
            <a:ext cx="80946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I motori di ricerca cercano di evitare gli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equivoci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: cercare la pesca (atto del pescare) invece che ll frutto (pesc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755640" y="2205000"/>
            <a:ext cx="80946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Tenendo in memoria milioni di pagine Web, anche scomparse, il motore di ricerca può anche trovare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un contenuto che non è più on lin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0840" y="549360"/>
            <a:ext cx="8307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Un motore di ricerca trova un contenuto online anche molto dopo che ha avuto successo.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Anche se non è più on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magine 1" descr="Schermata 2014-07-14 a 07.01.15.png"/>
          <p:cNvPicPr/>
          <p:nvPr/>
        </p:nvPicPr>
        <p:blipFill>
          <a:blip r:embed="rId1"/>
          <a:stretch/>
        </p:blipFill>
        <p:spPr>
          <a:xfrm>
            <a:off x="66600" y="2708280"/>
            <a:ext cx="9015480" cy="50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tangolo 2"/>
          <p:cNvSpPr/>
          <p:nvPr/>
        </p:nvSpPr>
        <p:spPr>
          <a:xfrm>
            <a:off x="395280" y="1916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a tecnologia non è buona né cattiva; ma non è neanche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250920" y="4149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Kranzberg, Melvin (1986) Technology and History: "Kranzberg's Laws", Technology and Cul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ol. 27, No. 3, pp. 544–560. In italiano cfr. http://www.bytelite.it/le-leggi-della-tecnologia-dikranzbe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sellaDiTesto 4"/>
          <p:cNvSpPr/>
          <p:nvPr/>
        </p:nvSpPr>
        <p:spPr>
          <a:xfrm>
            <a:off x="414720" y="620640"/>
            <a:ext cx="41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ima legge di Kranz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CasellaDiTesto 4"/>
          <p:cNvSpPr/>
          <p:nvPr/>
        </p:nvSpPr>
        <p:spPr>
          <a:xfrm>
            <a:off x="797040" y="907920"/>
            <a:ext cx="68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Google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è di gran lunga il motore di ricerca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più usa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Immagine 1" descr="Schermata 2014-07-14 a 06.15.54.png"/>
          <p:cNvPicPr/>
          <p:nvPr/>
        </p:nvPicPr>
        <p:blipFill>
          <a:blip r:embed="rId1"/>
          <a:stretch/>
        </p:blipFill>
        <p:spPr>
          <a:xfrm>
            <a:off x="468360" y="3429000"/>
            <a:ext cx="7819920" cy="118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9468000" cy="6885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grandi novità di Google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.  La partecipazione degli utenti è determinante per la raccolta pubblicitaria di Google. Più una pagina è cliccata,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iù aumenta la tariffa per le inserzioni pubblicitarie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u quella pagina. In questo modo ciascun utente contribuisce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la raccolta pubblicitaria del motore di ricerca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. Sul piano tecnico, l’efficienza di Google è molto superiore perché Google copia automaticamente (copia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cach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e memorizza tutte le pagine, almeno teoricamente, e quindi anche quando la pagina è successivamente modificata o cancellata. La sua indicizzazione (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tag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è migliore di tutti i concorrenti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3. Le pagine sono elencate in ordine di autorevolezza. L’autorevolezza è determinata sia dal numero di click che riceve, sia da quanto siano cliccate le pagine da cui proveng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egnaposto piè di pagina 1"/>
          <p:cNvSpPr/>
          <p:nvPr/>
        </p:nvSpPr>
        <p:spPr>
          <a:xfrm>
            <a:off x="3124080" y="6453360"/>
            <a:ext cx="2887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4"/>
          <p:cNvSpPr/>
          <p:nvPr/>
        </p:nvSpPr>
        <p:spPr>
          <a:xfrm>
            <a:off x="324000" y="404640"/>
            <a:ext cx="864072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Il successo di Google 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si dev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All’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efficienz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Ai milioni di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pagine memorizz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Alla capacità di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selezionare le fonti più consultate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e affidabil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Alla capacità di ordinare le pagine per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rilevanza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(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page ranking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magine 3" descr="Google Logo.jpg"/>
          <p:cNvPicPr/>
          <p:nvPr/>
        </p:nvPicPr>
        <p:blipFill>
          <a:blip r:embed="rId1"/>
          <a:stretch/>
        </p:blipFill>
        <p:spPr>
          <a:xfrm>
            <a:off x="1258920" y="4857840"/>
            <a:ext cx="6769080" cy="260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asellaDiTesto 4"/>
          <p:cNvSpPr/>
          <p:nvPr/>
        </p:nvSpPr>
        <p:spPr>
          <a:xfrm>
            <a:off x="755640" y="549360"/>
            <a:ext cx="78087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La vittoria di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Google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si deve anche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all’efficienza del suo sistema econom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Immagine 2" descr="Schermata 2014-07-14 a 06.47.37.png"/>
          <p:cNvPicPr/>
          <p:nvPr/>
        </p:nvPicPr>
        <p:blipFill>
          <a:blip r:embed="rId1"/>
          <a:stretch/>
        </p:blipFill>
        <p:spPr>
          <a:xfrm>
            <a:off x="2268360" y="2349360"/>
            <a:ext cx="3822840" cy="425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Immagine 1" descr="Schermata 2014-07-14 a 06.45.45.png"/>
          <p:cNvPicPr/>
          <p:nvPr/>
        </p:nvPicPr>
        <p:blipFill>
          <a:blip r:embed="rId1"/>
          <a:stretch/>
        </p:blipFill>
        <p:spPr>
          <a:xfrm>
            <a:off x="471600" y="0"/>
            <a:ext cx="820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asellaDiTesto 4"/>
          <p:cNvSpPr/>
          <p:nvPr/>
        </p:nvSpPr>
        <p:spPr>
          <a:xfrm>
            <a:off x="754200" y="1089000"/>
            <a:ext cx="780876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Ogni volta che clicchiamo su una pagina di Google 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aumentiamola tariffa pubblicitaria di chi investe su quella pagin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magine 3" descr="Google Logo.jpg"/>
          <p:cNvPicPr/>
          <p:nvPr/>
        </p:nvPicPr>
        <p:blipFill>
          <a:blip r:embed="rId1"/>
          <a:stretch/>
        </p:blipFill>
        <p:spPr>
          <a:xfrm>
            <a:off x="1405080" y="3789360"/>
            <a:ext cx="6767280" cy="260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Immagine 2" descr="Schermata 2014-07-14 a 06.49.35.png"/>
          <p:cNvPicPr/>
          <p:nvPr/>
        </p:nvPicPr>
        <p:blipFill>
          <a:blip r:embed="rId1"/>
          <a:stretch/>
        </p:blipFill>
        <p:spPr>
          <a:xfrm>
            <a:off x="122400" y="576360"/>
            <a:ext cx="8901000" cy="558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asellaDiTesto 4"/>
          <p:cNvSpPr/>
          <p:nvPr/>
        </p:nvSpPr>
        <p:spPr>
          <a:xfrm>
            <a:off x="855720" y="981000"/>
            <a:ext cx="8324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Con il nostro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click 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sulla pagina “Motoseghe da potatura” aiutiamo Goo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a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fare profitto 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con l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inserzioni sponsorizzate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CasellaDiTesto 4"/>
          <p:cNvSpPr/>
          <p:nvPr/>
        </p:nvSpPr>
        <p:spPr>
          <a:xfrm>
            <a:off x="468360" y="549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ndale Mono"/>
              </a:rPr>
              <a:t>Google</a:t>
            </a: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 guadagna anche registrando i nostri passaggi sui vari siti, e vendendo i </a:t>
            </a:r>
            <a:r>
              <a:rPr b="0" lang="it-IT" sz="2800" spc="-1" strike="noStrike">
                <a:solidFill>
                  <a:srgbClr val="ffc000"/>
                </a:solidFill>
                <a:latin typeface="Andale Mono"/>
              </a:rPr>
              <a:t>profili</a:t>
            </a: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 che ne risultano alle azie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Il </a:t>
            </a:r>
            <a:r>
              <a:rPr b="0" lang="it-IT" sz="2800" spc="-1" strike="noStrike">
                <a:solidFill>
                  <a:srgbClr val="ffc000"/>
                </a:solidFill>
                <a:latin typeface="Andale Mono"/>
              </a:rPr>
              <a:t>marketing</a:t>
            </a: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 abbina le caratteristiche di un prodotto al profilo dei possibili compratori, utilizzando appositi e segretissimi </a:t>
            </a:r>
            <a:r>
              <a:rPr b="0" lang="it-IT" sz="2800" spc="-1" strike="noStrike">
                <a:solidFill>
                  <a:srgbClr val="ffc000"/>
                </a:solidFill>
                <a:latin typeface="Andale Mono"/>
              </a:rPr>
              <a:t>algoritmi</a:t>
            </a: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, li contatta in internet e propone loro l’acquisto. Questo processo è chiamato </a:t>
            </a:r>
            <a:r>
              <a:rPr b="0" lang="it-IT" sz="2800" spc="-1" strike="noStrike">
                <a:solidFill>
                  <a:srgbClr val="ffc000"/>
                </a:solidFill>
                <a:latin typeface="Andale Mono"/>
              </a:rPr>
              <a:t>reccomend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asellaDiTesto 4"/>
          <p:cNvSpPr/>
          <p:nvPr/>
        </p:nvSpPr>
        <p:spPr>
          <a:xfrm>
            <a:off x="468360" y="549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Per questo motivo, dopo aver visionato la pagina delle motoseghe da potatura, probabilmente riceveremo per alcuni mesi, su vari siti, </a:t>
            </a:r>
            <a:r>
              <a:rPr b="0" lang="it-IT" sz="2800" spc="-1" strike="noStrike">
                <a:solidFill>
                  <a:srgbClr val="ffc000"/>
                </a:solidFill>
                <a:latin typeface="Andale Mono"/>
              </a:rPr>
              <a:t>offerte</a:t>
            </a: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 di acquistare motoseghe o prodotti aff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Ma anche offerte di prodotti e servizi piuttosto diversi, che il </a:t>
            </a:r>
            <a:r>
              <a:rPr b="0" lang="it-IT" sz="2800" spc="-1" strike="noStrike">
                <a:solidFill>
                  <a:srgbClr val="ffc000"/>
                </a:solidFill>
                <a:latin typeface="Andale Mono"/>
              </a:rPr>
              <a:t>marketing</a:t>
            </a: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 considera vicini allo stile di vita di chi è interessato alle motoseghe per</a:t>
            </a:r>
            <a:r>
              <a:rPr b="0" lang="it-IT" sz="2800" spc="-1" strike="noStrike">
                <a:solidFill>
                  <a:srgbClr val="ffc000"/>
                </a:solidFill>
                <a:latin typeface="Andale Mono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ndale Mono"/>
              </a:rPr>
              <a:t>potatura</a:t>
            </a:r>
            <a:r>
              <a:rPr b="0" lang="it-IT" sz="2800" spc="-1" strike="noStrike">
                <a:solidFill>
                  <a:srgbClr val="ffc000"/>
                </a:solidFill>
                <a:latin typeface="Andale Mon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8720" cy="6381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biamo detto che il il web riemerge da questa crisi profondamente cambiato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pravvivono prevalentemente i siti che comportano un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coinvolgimen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una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collaborazi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vario titolo, degli utenti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Bay, Amazon, Wikipedia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 cui abbiamo parlato nella lezione precedente, sono forme di questa collaborazion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Goog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rà però il soggetto che sfrutterà al meglio questa finestra di opportunità, almeno fino all’arrivo di social network (dopo il 2006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CasellaDiTesto 4"/>
          <p:cNvSpPr/>
          <p:nvPr/>
        </p:nvSpPr>
        <p:spPr>
          <a:xfrm>
            <a:off x="612720" y="907920"/>
            <a:ext cx="7993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Ogni nostro movimento in Internet è adesso tracciato, per profilare la clientela, per stabilire le tariffe delle pagine, ma </a:t>
            </a:r>
            <a:r>
              <a:rPr b="0" lang="it-IT" sz="3600" spc="-1" strike="noStrike">
                <a:solidFill>
                  <a:srgbClr val="ffc000"/>
                </a:solidFill>
                <a:latin typeface="Andale Mono"/>
              </a:rPr>
              <a:t>l’uso di questi dati sensibili suscita interrogativi e problem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Anche se sono dati che ciascuno di noi ha fornito spontaneamente</a:t>
            </a:r>
            <a:r>
              <a:rPr b="0" lang="it-IT" sz="3600" spc="-1" strike="noStrike">
                <a:solidFill>
                  <a:srgbClr val="ffc000"/>
                </a:solidFill>
                <a:latin typeface="Andale Mono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asellaDiTesto 4"/>
          <p:cNvSpPr/>
          <p:nvPr/>
        </p:nvSpPr>
        <p:spPr>
          <a:xfrm>
            <a:off x="755640" y="2492280"/>
            <a:ext cx="81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Il click è la nostra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contribuzione 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al successo e profitto di Goog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asellaDiTesto 4"/>
          <p:cNvSpPr/>
          <p:nvPr/>
        </p:nvSpPr>
        <p:spPr>
          <a:xfrm>
            <a:off x="684360" y="2259000"/>
            <a:ext cx="81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Ricerchiamo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gratuitamente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,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Contribuiamo al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profitto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. Un solido “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cambio merce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CasellaDiTesto 4"/>
          <p:cNvSpPr/>
          <p:nvPr/>
        </p:nvSpPr>
        <p:spPr>
          <a:xfrm>
            <a:off x="900000" y="1268280"/>
            <a:ext cx="7291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Google è ormai un mondo: Gmail, Google Maps, Earth, YouTube, Google plus, Chrome, Android, calendario, traduttor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…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. E molto di più, in continua cresci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4"/>
          <p:cNvSpPr/>
          <p:nvPr/>
        </p:nvSpPr>
        <p:spPr>
          <a:xfrm>
            <a:off x="755640" y="105264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Il Web 2.O richiede sempre più partecipazione da parte degli utenti, ma ma non ancora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creazione e diffusione di contenuti da parte degli uten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Ciò avverrà solo con i </a:t>
            </a:r>
            <a:r>
              <a:rPr b="0" lang="it-IT" sz="3600" spc="-1" strike="noStrike">
                <a:solidFill>
                  <a:srgbClr val="ffc000"/>
                </a:solidFill>
                <a:latin typeface="Andale Mono"/>
              </a:rPr>
              <a:t>blog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e poi con i </a:t>
            </a:r>
            <a:r>
              <a:rPr b="0" lang="it-IT" sz="3600" spc="-1" strike="noStrike">
                <a:solidFill>
                  <a:srgbClr val="ffc000"/>
                </a:solidFill>
                <a:latin typeface="Andale Mono"/>
              </a:rPr>
              <a:t>social network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1"/>
          <p:cNvSpPr/>
          <p:nvPr/>
        </p:nvSpPr>
        <p:spPr>
          <a:xfrm>
            <a:off x="250920" y="1197000"/>
            <a:ext cx="9453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cc00"/>
                </a:solidFill>
                <a:latin typeface="Andale Mono"/>
              </a:rPr>
              <a:t>GOOGL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cc00"/>
                </a:solidFill>
                <a:latin typeface="Andale Mono"/>
              </a:rPr>
              <a:t>MOTORE DEL WEB2.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magine 3" descr="Google Logo.jpg"/>
          <p:cNvPicPr/>
          <p:nvPr/>
        </p:nvPicPr>
        <p:blipFill>
          <a:blip r:embed="rId1"/>
          <a:stretch/>
        </p:blipFill>
        <p:spPr>
          <a:xfrm>
            <a:off x="1260360" y="3284640"/>
            <a:ext cx="676908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8720" cy="6381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motore di ricerca Google assume, nel Web 2.0, una assoluta centralità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esigenza dei motori di ricerca nasce dalla sempre maggiore complessità del web, ma anche del desiderio degli utenti di essere sempre più protagonisti delle loro navigazioni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 per sè, I motori di ricerca non sono una assoluta novità. C’erano anche nel web 1.0, spesso incorporati nei portali. Ecco qui di seguito una spiegazione più am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tangolo 1"/>
          <p:cNvSpPr/>
          <p:nvPr/>
        </p:nvSpPr>
        <p:spPr>
          <a:xfrm>
            <a:off x="914040" y="1197000"/>
            <a:ext cx="6215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cc00"/>
                </a:solidFill>
                <a:latin typeface="Andale Mono"/>
              </a:rPr>
              <a:t>I MOTORI DI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cc00"/>
                </a:solidFill>
                <a:latin typeface="Andale Mono"/>
              </a:rPr>
              <a:t>RICER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magine 1" descr="Motori di ricerca.jpg"/>
          <p:cNvPicPr/>
          <p:nvPr/>
        </p:nvPicPr>
        <p:blipFill>
          <a:blip r:embed="rId1"/>
          <a:stretch/>
        </p:blipFill>
        <p:spPr>
          <a:xfrm>
            <a:off x="2629080" y="3429000"/>
            <a:ext cx="401796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1714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cchi motori di ricerca: America On Lin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magine 6" descr="AOL Schermata.jpg"/>
          <p:cNvPicPr/>
          <p:nvPr/>
        </p:nvPicPr>
        <p:blipFill>
          <a:blip r:embed="rId1"/>
          <a:stretch/>
        </p:blipFill>
        <p:spPr>
          <a:xfrm>
            <a:off x="826920" y="1328760"/>
            <a:ext cx="7334280" cy="5500800"/>
          </a:xfrm>
          <a:prstGeom prst="rect">
            <a:avLst/>
          </a:prstGeom>
          <a:ln w="0">
            <a:noFill/>
          </a:ln>
        </p:spPr>
      </p:pic>
      <p:cxnSp>
        <p:nvCxnSpPr>
          <p:cNvPr id="141" name="Connettore 2 2"/>
          <p:cNvCxnSpPr/>
          <p:nvPr/>
        </p:nvCxnSpPr>
        <p:spPr>
          <a:xfrm>
            <a:off x="4211640" y="2781000"/>
            <a:ext cx="2161080" cy="11527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</p:cxnSp>
      <p:sp>
        <p:nvSpPr>
          <p:cNvPr id="142" name="CasellaDiTesto 5"/>
          <p:cNvSpPr/>
          <p:nvPr/>
        </p:nvSpPr>
        <p:spPr>
          <a:xfrm>
            <a:off x="5435640" y="4149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motore di ric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è incorporato nel por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14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cchi motori di ricerca: Yahoo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magine 4" descr="Yahoo schermata.gif"/>
          <p:cNvPicPr/>
          <p:nvPr/>
        </p:nvPicPr>
        <p:blipFill>
          <a:blip r:embed="rId1"/>
          <a:stretch/>
        </p:blipFill>
        <p:spPr>
          <a:xfrm>
            <a:off x="2519280" y="1138320"/>
            <a:ext cx="3959280" cy="4941720"/>
          </a:xfrm>
          <a:prstGeom prst="rect">
            <a:avLst/>
          </a:prstGeom>
          <a:ln w="0">
            <a:noFill/>
          </a:ln>
        </p:spPr>
      </p:pic>
      <p:sp>
        <p:nvSpPr>
          <p:cNvPr id="146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7280" y="337680"/>
            <a:ext cx="8569440" cy="714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cchi motori di ricerca: Altavis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magine 5" descr="Altavista schermata.jpg"/>
          <p:cNvPicPr/>
          <p:nvPr/>
        </p:nvPicPr>
        <p:blipFill>
          <a:blip r:embed="rId1"/>
          <a:stretch/>
        </p:blipFill>
        <p:spPr>
          <a:xfrm>
            <a:off x="2124000" y="1197000"/>
            <a:ext cx="4559400" cy="4753080"/>
          </a:xfrm>
          <a:prstGeom prst="rect">
            <a:avLst/>
          </a:prstGeom>
          <a:ln w="0">
            <a:noFill/>
          </a:ln>
        </p:spPr>
      </p:pic>
      <p:sp>
        <p:nvSpPr>
          <p:cNvPr id="149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20:26:50Z</dcterms:created>
  <dc:creator>Prof. Menduni</dc:creator>
  <dc:description/>
  <dc:language>en-US</dc:language>
  <cp:lastModifiedBy>chiara di stefano</cp:lastModifiedBy>
  <dcterms:modified xsi:type="dcterms:W3CDTF">2017-11-22T09:13:53Z</dcterms:modified>
  <cp:revision>127</cp:revision>
  <dc:subject/>
  <dc:title>Diapositiva 1</dc:title>
</cp:coreProperties>
</file>