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6.png" ContentType="image/png"/>
  <Override PartName="/ppt/media/image13.jpeg" ContentType="image/jpeg"/>
  <Override PartName="/ppt/media/image22.png" ContentType="image/png"/>
  <Override PartName="/ppt/media/image19.jpeg" ContentType="image/jpeg"/>
  <Override PartName="/ppt/media/image5.png" ContentType="image/png"/>
  <Override PartName="/ppt/media/image10.png" ContentType="image/png"/>
  <Override PartName="/ppt/media/image21.png" ContentType="image/png"/>
  <Override PartName="/ppt/media/image4.png" ContentType="image/png"/>
  <Override PartName="/ppt/media/image18.png" ContentType="image/png"/>
  <Override PartName="/ppt/media/image15.jpeg" ContentType="image/jpeg"/>
  <Override PartName="/ppt/media/image17.png" ContentType="image/png"/>
  <Override PartName="/ppt/media/image16.jpeg" ContentType="image/jpeg"/>
  <Override PartName="/ppt/media/image14.png" ContentType="image/pn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4F5E5-E6C0-411C-A3DD-11305354C34F}" type="datetime">
              <a:rPr b="0" lang="it-IT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EF35C-AD50-4C5A-9ECE-7144536B66B2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4C67B-0E83-45F3-8910-51FA5B5BC1D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AD35-96E2-419A-839C-A29E07978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BBD7-0B4E-4024-B9C5-E353749E8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B8F8-F444-4ED7-ADA9-FBB86A792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54A8C-CBB8-4059-863E-A91D1F751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52FC-1580-46A9-B848-25185DFA2F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D2CE-BCCF-44F5-935B-D7D729C01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25865-C044-4869-B740-345FEDE49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6E52-3642-4D1A-9F42-47A06E6E0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DEDE0-0F41-454D-ADC8-AF20E649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F7100-4901-4268-BCF7-404277967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1C6F8-4484-41FE-81D9-DD56CED0E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4B5C-77BB-4467-A41D-BE5BC819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575f6d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088BB-96AA-4B97-BC89-5AED244C2C7F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c_m2F_ph_uU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CasellaDiTesto 2"/>
          <p:cNvSpPr/>
          <p:nvPr/>
        </p:nvSpPr>
        <p:spPr>
          <a:xfrm>
            <a:off x="0" y="495360"/>
            <a:ext cx="9144000" cy="46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iversità Roma T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rso di laurea magistr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INEMA, TELEVISIONE E PRODUZIONE MULTIMED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orso “Media digitali: Televisione, Video, Internet”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ocente: Enrico Menduni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L’infrastruttura tecnologica del Web 2.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6 dicembre 201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6" descr="testataincapa"/>
          <p:cNvPicPr/>
          <p:nvPr/>
        </p:nvPicPr>
        <p:blipFill>
          <a:blip r:embed="rId1"/>
          <a:stretch/>
        </p:blipFill>
        <p:spPr>
          <a:xfrm>
            <a:off x="0" y="0"/>
            <a:ext cx="914400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nternet sui telefonini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496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’UMTS è la terza generazione (3G) della telefonia cellular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TAC (analogic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SM (digit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MTS (digita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Dopo un inizio deludente (2002), l’UMTS raggiunge l’efficienza nel 2006 circa.  Tentativi di portare la tv sul “tvfonino” e la videochiamata sul “videofonino” (portati avanti specialmente da Tre) non avevano riscosso il successo spera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-27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nternet sui telefonini - 2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981000"/>
            <a:ext cx="8712000" cy="55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l 2006 compare il primo “smartphone” UMTS, il BlackBerry, dedicato all’utenza affari e di fascia al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Nel 2007 viene lanciato l’iPhone di Apple e presto lo smartphone assumerà un carattere spiccatamente multimediale, creativo, partecipativo e lud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ffff"/>
                </a:solidFill>
                <a:latin typeface="Arial"/>
              </a:rPr>
              <a:t>Gli anni successivi vedono la competizione tra Apple e Samsung (sui dispositivi) e quella tra Apple, Android-Google e Windows Phone per quello che riguarda i sistemi operativi, mentre si diffondono i tabl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5435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BlackBerry 2006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5041800" cy="51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imo smartphone UM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tenza affari, fascia alta, grande capacità di posta elettronica grazie a server dedicato (BlackBerry Enterprise Servic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brido fra cellulare e computer palmare, permette di svolgere funzioni proprie di un ufficio mob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ggi in grave difficoltà per la concorrenza di Apple e Samsung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ff"/>
                </a:solidFill>
                <a:latin typeface="Arial"/>
              </a:rPr>
              <a:t>Blackberry: in inglese ”mora”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4" descr="BlackBerry.png"/>
          <p:cNvPicPr/>
          <p:nvPr/>
        </p:nvPicPr>
        <p:blipFill>
          <a:blip r:embed="rId1"/>
          <a:stretch/>
        </p:blipFill>
        <p:spPr>
          <a:xfrm>
            <a:off x="5452920" y="115920"/>
            <a:ext cx="3583080" cy="620244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3" descr="Schermata 2013-10-19 a 13.16.01.png"/>
          <p:cNvPicPr/>
          <p:nvPr/>
        </p:nvPicPr>
        <p:blipFill>
          <a:blip r:embed="rId2"/>
          <a:stretch/>
        </p:blipFill>
        <p:spPr>
          <a:xfrm>
            <a:off x="3276720" y="5013360"/>
            <a:ext cx="1655640" cy="1303200"/>
          </a:xfrm>
          <a:prstGeom prst="rect">
            <a:avLst/>
          </a:prstGeom>
          <a:ln w="0">
            <a:noFill/>
          </a:ln>
        </p:spPr>
      </p:pic>
      <p:cxnSp>
        <p:nvCxnSpPr>
          <p:cNvPr id="90" name="Connettore 2 5"/>
          <p:cNvCxnSpPr/>
          <p:nvPr/>
        </p:nvCxnSpPr>
        <p:spPr>
          <a:xfrm flipH="1">
            <a:off x="4284000" y="3933720"/>
            <a:ext cx="2159640" cy="1656720"/>
          </a:xfrm>
          <a:prstGeom prst="straightConnector1">
            <a:avLst/>
          </a:prstGeom>
          <a:ln w="50760">
            <a:solidFill>
              <a:srgbClr val="ff0000"/>
            </a:solidFill>
            <a:miter/>
            <a:headEnd len="med" type="arrow" w="med"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603360"/>
            <a:ext cx="9144000" cy="1765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uter palmare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8000" y="980640"/>
            <a:ext cx="518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rmai dimenticato, era un piccolo computer, diffuso negli anni Novanta. Un ufficio mobile. </a:t>
            </a:r>
            <a:br>
              <a:rPr sz="24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funzioni erano: agenda elettronica, calcolatrice, calendario, rubrica, scrittura e memorizzazione di note e appunti (anche vocali), connessione via cavo al computer per scambiare e aggiornare documenti: mancava ovviamente la possibilità di connettersi ad Internet non c’era nulla di visuale (foto, vide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Immagine 3" descr="Schermata 2013-10-19 a 12.47.18.png"/>
          <p:cNvPicPr/>
          <p:nvPr/>
        </p:nvPicPr>
        <p:blipFill>
          <a:blip r:embed="rId1"/>
          <a:stretch/>
        </p:blipFill>
        <p:spPr>
          <a:xfrm>
            <a:off x="5292720" y="907920"/>
            <a:ext cx="3822840" cy="514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-136800"/>
            <a:ext cx="9144000" cy="17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Agendine elettroniche PDA</a:t>
            </a:r>
            <a:br>
              <a:rPr sz="3600"/>
            </a:b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Personal Digital Assistant)</a:t>
            </a:r>
            <a:br>
              <a:rPr sz="2400"/>
            </a:br>
            <a:endParaRPr b="0" lang="en-US" sz="2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8000" y="764640"/>
            <a:ext cx="9036000" cy="15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0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A sua volta il palmare deriva dalle agendine elettroniche (leader di mercato Casio) degli anni Ottanta. Anche qui agenda elettronica, calcolatrice, rubrica, scrittura note e problematica connessione via cavo al computer (solo nei modelli più costos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Casio Digital Diary,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Immagine 4" descr="Casio Digital Diary 1983.JPG"/>
          <p:cNvPicPr/>
          <p:nvPr/>
        </p:nvPicPr>
        <p:blipFill>
          <a:blip r:embed="rId1"/>
          <a:stretch/>
        </p:blipFill>
        <p:spPr>
          <a:xfrm>
            <a:off x="4211640" y="2282760"/>
            <a:ext cx="4392720" cy="402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600" spc="-1" strike="noStrike">
                <a:solidFill>
                  <a:srgbClr val="ffffff"/>
                </a:solidFill>
                <a:latin typeface="Arial"/>
              </a:rPr>
              <a:t>Nokia Communicator, un ibrido 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0" y="981000"/>
            <a:ext cx="3851280" cy="273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sete di connessione degli anni Novanta è espressa anche dai tentativi di riunire in un unico dispositivo le agendine PDA, il computer e i cellulari. L’esempio più significativo è il Nokia Communicator 9000 del 1996, un cellulare GSM che si apriva rivelando una seconda tastiera estesa e un display bianco/nero di 4,5 pollici, in ben 397 grammi di peso. Nokia Communicator non sopravvisse all’UMTS. Oggetto di culto, molto caro, una specie di aereo supersonico Concorde poi abbandon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Immagine 3" descr="Nokia Communicator 9000 2.png"/>
          <p:cNvPicPr/>
          <p:nvPr/>
        </p:nvPicPr>
        <p:blipFill>
          <a:blip r:embed="rId1"/>
          <a:stretch/>
        </p:blipFill>
        <p:spPr>
          <a:xfrm>
            <a:off x="3851280" y="1197000"/>
            <a:ext cx="530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840" y="-641520"/>
            <a:ext cx="9144000" cy="1766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Computer palmari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859280" y="5805360"/>
            <a:ext cx="3384720" cy="50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Apple Newton, 199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Immagine 4" descr="Apple Newton 1993.jpg"/>
          <p:cNvPicPr/>
          <p:nvPr/>
        </p:nvPicPr>
        <p:blipFill>
          <a:blip r:embed="rId1"/>
          <a:stretch/>
        </p:blipFill>
        <p:spPr>
          <a:xfrm>
            <a:off x="4859280" y="716040"/>
            <a:ext cx="3384720" cy="5016600"/>
          </a:xfrm>
          <a:prstGeom prst="rect">
            <a:avLst/>
          </a:prstGeom>
          <a:ln w="0">
            <a:noFill/>
          </a:ln>
        </p:spPr>
      </p:pic>
      <p:pic>
        <p:nvPicPr>
          <p:cNvPr id="107" name="Immagine 5" descr="Psion Organiser 2.gif"/>
          <p:cNvPicPr/>
          <p:nvPr/>
        </p:nvPicPr>
        <p:blipFill>
          <a:blip r:embed="rId2"/>
          <a:stretch/>
        </p:blipFill>
        <p:spPr>
          <a:xfrm>
            <a:off x="1116000" y="631800"/>
            <a:ext cx="2771640" cy="5108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3"/>
          <p:cNvSpPr/>
          <p:nvPr/>
        </p:nvSpPr>
        <p:spPr>
          <a:xfrm>
            <a:off x="468360" y="5805360"/>
            <a:ext cx="417492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sion Organizer 2, 199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Phone 2007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pic>
        <p:nvPicPr>
          <p:cNvPr id="110" name="Picture 8" descr="iphone"/>
          <p:cNvPicPr/>
          <p:nvPr/>
        </p:nvPicPr>
        <p:blipFill>
          <a:blip r:embed="rId1"/>
          <a:stretch/>
        </p:blipFill>
        <p:spPr>
          <a:xfrm>
            <a:off x="2124000" y="765000"/>
            <a:ext cx="4576680" cy="4724640"/>
          </a:xfrm>
          <a:prstGeom prst="rect">
            <a:avLst/>
          </a:prstGeom>
          <a:ln w="0">
            <a:noFill/>
          </a:ln>
        </p:spPr>
      </p:pic>
      <p:sp>
        <p:nvSpPr>
          <p:cNvPr id="111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0" y="-243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Phone 2007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3" name="Segnaposto piè di pagina 1"/>
          <p:cNvSpPr/>
          <p:nvPr/>
        </p:nvSpPr>
        <p:spPr>
          <a:xfrm>
            <a:off x="3124080" y="64818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0" y="765000"/>
            <a:ext cx="9144000" cy="302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teve Jobs presenta l’iPhone: 9 gennaio 200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in commercio sei mesi dop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d2611c"/>
                </a:solidFill>
                <a:uFillTx/>
                <a:latin typeface="Arial"/>
                <a:hlinkClick r:id="rId1"/>
              </a:rPr>
              <a:t>http://www.youtube.com/watch?v=c_m2F_ph_u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Immagine 4" descr="Steve Jobs-iPhone.jpg"/>
          <p:cNvPicPr/>
          <p:nvPr/>
        </p:nvPicPr>
        <p:blipFill>
          <a:blip r:embed="rId2"/>
          <a:stretch/>
        </p:blipFill>
        <p:spPr>
          <a:xfrm>
            <a:off x="1979640" y="2249640"/>
            <a:ext cx="5219640" cy="39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Phone 1 - 7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79280" y="907920"/>
            <a:ext cx="896472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Design raffinato, derivato dall'iPod. Oggetto di fandom, oggetto di cul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tilizzazione del wi-fi ovunque possibile (risparmio per l'uten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Hot spot per connettere via bluetooth altri dispositivi ad Intern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Uno stile di vita “always on [line]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fonia è ormai seconda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rande spazio alla multimedialità: registrazione audio, foto, video di grande qualità. Schermo grande e di qualità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Software di montaggio e post-produzione a bor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ssibilità di invio sia tramite MMS che ema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Possibilità di collegamento diretto e di invio di file multimediali ai social network (dal 2009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PS dalla versione iPhone 3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Tutte le funzioni musicali dell'iPo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Grande cura dell'elemento lud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2 milioni e 500 mila apps, prevalentemente di terze parti, gratis o a pagamento: un nuovo modello di busines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egnaposto piè di pagina 1"/>
          <p:cNvSpPr/>
          <p:nvPr/>
        </p:nvSpPr>
        <p:spPr>
          <a:xfrm>
            <a:off x="312408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-15840" y="206028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Instant Messaging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2" name="Segnaposto piè di pagina 1"/>
          <p:cNvSpPr/>
          <p:nvPr/>
        </p:nvSpPr>
        <p:spPr>
          <a:xfrm>
            <a:off x="3124080" y="6408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pps: un nuovo modello di business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0" name="Text Box 9"/>
          <p:cNvSpPr/>
          <p:nvPr/>
        </p:nvSpPr>
        <p:spPr>
          <a:xfrm>
            <a:off x="179280" y="3774960"/>
            <a:ext cx="8964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ealizzate da terze parti, tecnicamente approvate da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endute su iTunes con una percentuale per Ap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Oltre 4. 000.000 (2017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 mercato che vale (Wall Street Journal) 25 miliardi di dollari all’an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Un modello subito adottato dagli altri sistemi operativi e singoli produt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Immagine 3" descr="Schermata 2014-11-18 alle 14.45.27.png"/>
          <p:cNvPicPr/>
          <p:nvPr/>
        </p:nvPicPr>
        <p:blipFill>
          <a:blip r:embed="rId1"/>
          <a:stretch/>
        </p:blipFill>
        <p:spPr>
          <a:xfrm>
            <a:off x="2050920" y="765000"/>
            <a:ext cx="4713480" cy="28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Apps: un nuovo modello di business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4" name="Segnaposto piè di pagina 1"/>
          <p:cNvSpPr/>
          <p:nvPr/>
        </p:nvSpPr>
        <p:spPr>
          <a:xfrm>
            <a:off x="3124080" y="638172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Immagine 2" descr="Available_on_the_App_Store_(black).png"/>
          <p:cNvPicPr/>
          <p:nvPr/>
        </p:nvPicPr>
        <p:blipFill>
          <a:blip r:embed="rId1"/>
          <a:stretch/>
        </p:blipFill>
        <p:spPr>
          <a:xfrm>
            <a:off x="250920" y="981000"/>
            <a:ext cx="8496360" cy="2519280"/>
          </a:xfrm>
          <a:prstGeom prst="rect">
            <a:avLst/>
          </a:prstGeom>
          <a:ln w="0">
            <a:noFill/>
          </a:ln>
        </p:spPr>
      </p:pic>
      <p:pic>
        <p:nvPicPr>
          <p:cNvPr id="126" name="Immagine 4" descr="Android.jpg"/>
          <p:cNvPicPr/>
          <p:nvPr/>
        </p:nvPicPr>
        <p:blipFill>
          <a:blip r:embed="rId2"/>
          <a:stretch/>
        </p:blipFill>
        <p:spPr>
          <a:xfrm>
            <a:off x="324000" y="3573360"/>
            <a:ext cx="8188200" cy="28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171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Ci sono Apps per quasi tutto</a:t>
            </a:r>
            <a:endParaRPr b="0" lang="en-US" sz="40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28" name="Text Box 9"/>
          <p:cNvSpPr/>
          <p:nvPr/>
        </p:nvSpPr>
        <p:spPr>
          <a:xfrm>
            <a:off x="179280" y="907920"/>
            <a:ext cx="8964720" cy="525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ocial Network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Gioc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arte e mappe. Orientamento. Navig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Notizie. Tutti i giornali ne hanno un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Previsioni mete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Fitness e sal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Cibo e bevan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Banca e Fin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Ricerca su Goo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pettacol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Video on de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ibri - cult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a consultazione dello smartphone è ormai una pratica che ci impegna 15-20 volte al gior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Android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107640" y="2997360"/>
            <a:ext cx="8785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sistema operativo Android per dispositivi mobili è stato sviluppato da Google dopo il 2005 quando la società ha cominciato a studiare il suo ingresso nella telefonia cellula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Oltre 700 mila apps sono disponibili su Google Play, il negozio elettronico di famigl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sistema operativo Android è montato sui dispositivi Samsung, HTC, LG, Sony, Asus ed adesso anche su quelli Motorola, dopo l’acquisto da parte di Google. E’ oggi il più diffuso al mon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Immagine 1" descr="Logo Android.jpg"/>
          <p:cNvPicPr/>
          <p:nvPr/>
        </p:nvPicPr>
        <p:blipFill>
          <a:blip r:embed="rId1"/>
          <a:stretch/>
        </p:blipFill>
        <p:spPr>
          <a:xfrm>
            <a:off x="0" y="25560"/>
            <a:ext cx="2952720" cy="2871720"/>
          </a:xfrm>
          <a:prstGeom prst="rect">
            <a:avLst/>
          </a:prstGeom>
          <a:ln w="0">
            <a:noFill/>
          </a:ln>
        </p:spPr>
      </p:pic>
      <p:pic>
        <p:nvPicPr>
          <p:cNvPr id="134" name="Immagine 2" descr="R2-D2_Droid.png"/>
          <p:cNvPicPr/>
          <p:nvPr/>
        </p:nvPicPr>
        <p:blipFill>
          <a:blip r:embed="rId2"/>
          <a:stretch/>
        </p:blipFill>
        <p:spPr>
          <a:xfrm>
            <a:off x="7236000" y="981000"/>
            <a:ext cx="1512720" cy="2016360"/>
          </a:xfrm>
          <a:prstGeom prst="rect">
            <a:avLst/>
          </a:prstGeom>
          <a:ln w="0">
            <a:noFill/>
          </a:ln>
        </p:spPr>
      </p:pic>
      <p:sp>
        <p:nvSpPr>
          <p:cNvPr id="135" name="CasellaDiTesto 4"/>
          <p:cNvSpPr/>
          <p:nvPr/>
        </p:nvSpPr>
        <p:spPr>
          <a:xfrm>
            <a:off x="4572000" y="1628640"/>
            <a:ext cx="2592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La mascotte di Android s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it-IT" sz="1600" spc="-1" strike="noStrike">
                <a:solidFill>
                  <a:srgbClr val="ffffff"/>
                </a:solidFill>
                <a:latin typeface="Arial"/>
              </a:rPr>
              <a:t>ispira al droide R2-D2 di “Guerre Stellari” (1977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Segnaposto piè di pagina 1"/>
          <p:cNvSpPr/>
          <p:nvPr/>
        </p:nvSpPr>
        <p:spPr>
          <a:xfrm>
            <a:off x="7740720" y="6237360"/>
            <a:ext cx="102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ndows Phone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07640" y="2997360"/>
            <a:ext cx="8785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l sistema operativo mobile di Microsoft sconta il ritardo con cui l’azienda  già monopolista si è dedicata alla telefonia mobile; tuttavia si avvale della posizione di forza di Microsoft nei confronti dei produttori di hardware: ad esempio Samsung, pur adottando Android ha realizzato uno smartphone con Windows Phone (ATIV S). Altri smartphone sono commercializzati con il marchio Windows Phone, mentre il sistema è stato scelto dalla cinese Huawei per il suo ingresso nella telefonia (modello Ascend). L’unico grande produttore è Nokia, che peraltro e  è stata acquistata, di fatto, da Microsoft (settembre 2013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Immagine 5" descr="Schermata 2013-10-19 a 16.43.15.png"/>
          <p:cNvPicPr/>
          <p:nvPr/>
        </p:nvPicPr>
        <p:blipFill>
          <a:blip r:embed="rId1"/>
          <a:stretch/>
        </p:blipFill>
        <p:spPr>
          <a:xfrm>
            <a:off x="900000" y="1260360"/>
            <a:ext cx="7215480" cy="1663920"/>
          </a:xfrm>
          <a:prstGeom prst="rect">
            <a:avLst/>
          </a:prstGeom>
          <a:ln w="0">
            <a:noFill/>
          </a:ln>
        </p:spPr>
      </p:pic>
      <p:sp>
        <p:nvSpPr>
          <p:cNvPr id="141" name="Segnaposto piè di pagina 1"/>
          <p:cNvSpPr/>
          <p:nvPr/>
        </p:nvSpPr>
        <p:spPr>
          <a:xfrm>
            <a:off x="7740720" y="6237360"/>
            <a:ext cx="102240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916360" y="-316440"/>
            <a:ext cx="6240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Messenger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54" name="Segnaposto piè di pagina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3" descr="Messenger Logo.jpg"/>
          <p:cNvPicPr/>
          <p:nvPr/>
        </p:nvPicPr>
        <p:blipFill>
          <a:blip r:embed="rId1"/>
          <a:stretch/>
        </p:blipFill>
        <p:spPr>
          <a:xfrm>
            <a:off x="17640" y="0"/>
            <a:ext cx="3160440" cy="256536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313080" y="765000"/>
            <a:ext cx="6012000" cy="19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E’ stata la più popolare applicazione di messaggeria istantanea, introdotta da Microsoft nel 1999 e poi sviluppata in numerose successive versioni (Windows Live Messenger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CasellaDiTesto 5"/>
          <p:cNvSpPr/>
          <p:nvPr/>
        </p:nvSpPr>
        <p:spPr>
          <a:xfrm>
            <a:off x="108000" y="2637000"/>
            <a:ext cx="87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a messaggeria istantanea è, nel Web 2.0, l’equivalente delle chat nella prima fase di Internet. Nel Web 2.5 sarà emulata dai social network che forniranno un servizio sim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CasellaDiTesto 6"/>
          <p:cNvSpPr/>
          <p:nvPr/>
        </p:nvSpPr>
        <p:spPr>
          <a:xfrm>
            <a:off x="395280" y="5229360"/>
            <a:ext cx="208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Segnaposto piè di pagina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CasellaDiTesto 6"/>
          <p:cNvSpPr/>
          <p:nvPr/>
        </p:nvSpPr>
        <p:spPr>
          <a:xfrm>
            <a:off x="395280" y="5229360"/>
            <a:ext cx="2089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CasellaDiTesto 7"/>
          <p:cNvSpPr/>
          <p:nvPr/>
        </p:nvSpPr>
        <p:spPr>
          <a:xfrm>
            <a:off x="392040" y="2874960"/>
            <a:ext cx="8501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Quando, nel 2011, Microsoft ha comprato Skype ha chiuso Messenger (Aprile 2013) e ha trasferito tutto su Skype, lasciando molti rimpianti.  Dopo il 2010 tecnologie di instant messaging sono state implementate sui social network, a partire da Facebook. Per  messaggiare non c’è più bisogno di una applicazone specifica, basta stare su Faceboo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Immagine 8" descr="Goodbye Messenger.png"/>
          <p:cNvPicPr/>
          <p:nvPr/>
        </p:nvPicPr>
        <p:blipFill>
          <a:blip r:embed="rId1"/>
          <a:stretch/>
        </p:blipFill>
        <p:spPr>
          <a:xfrm>
            <a:off x="2340000" y="122400"/>
            <a:ext cx="3984480" cy="22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600" y="-316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Skype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44000" y="3789360"/>
            <a:ext cx="8820360" cy="26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Skype, introdotto nel 2002, è un’applicazione VOIP (Voice Over Internet Protocol) che permette messaggeria istantanea, videochiamate e videoconferenze gratuite via Internet su computer, smartphone, tablet ad altri utenti connessi; ed anche telefonate a telefoni fissi o mobili, anche internazionali, a prezzi molto competitivi. Acquistata nel 2005 da eBay, è dal 2011 proprietà di Microsof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Segnaposto piè di pagina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magine 4" descr="Skype.png"/>
          <p:cNvPicPr/>
          <p:nvPr/>
        </p:nvPicPr>
        <p:blipFill>
          <a:blip r:embed="rId1"/>
          <a:stretch/>
        </p:blipFill>
        <p:spPr>
          <a:xfrm>
            <a:off x="2124000" y="765000"/>
            <a:ext cx="4969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476280"/>
            <a:ext cx="9144000" cy="540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ffff"/>
                </a:solidFill>
                <a:latin typeface="Arial"/>
              </a:rPr>
              <a:t>I social network non sono applicazioni, ma piattaforme sulle quali è possibile implementare nuovi servizi, che non erano stati all’origine previsti. Si evolvono continuamente e tendono a “portalizzarsi”: cioè “a fare tutto” per il loro follower, cercando che non esca mai dalla piattaforma.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68" name="Segnaposto piè di pagina 1"/>
          <p:cNvSpPr/>
          <p:nvPr/>
        </p:nvSpPr>
        <p:spPr>
          <a:xfrm>
            <a:off x="3124080" y="633744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/>
          </p:nvPr>
        </p:nvSpPr>
        <p:spPr>
          <a:xfrm>
            <a:off x="228600" y="1628640"/>
            <a:ext cx="8686800" cy="43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Whatsapp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è una applicazione di messaggeria istantanea specializzata per gli smartphone che permette, in modalità VOIP, di inviare messaggi (anche audio, foto, video), effettuare chiamate e videochiamate,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senza spendere nulla 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salvo l’eventuale costo della connessi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Creata nel 2009, è stata acquistata da </a:t>
            </a:r>
            <a:r>
              <a:rPr b="0" lang="it-IT" sz="3200" spc="-1" strike="noStrike">
                <a:solidFill>
                  <a:srgbClr val="ff9900"/>
                </a:solidFill>
                <a:latin typeface="Arial"/>
              </a:rPr>
              <a:t>Facebook nel 2014</a:t>
            </a:r>
            <a:r>
              <a:rPr b="0" lang="it-IT" sz="3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egnaposto contenuto 5" descr=""/>
          <p:cNvPicPr/>
          <p:nvPr/>
        </p:nvPicPr>
        <p:blipFill>
          <a:blip r:embed="rId1"/>
          <a:stretch/>
        </p:blipFill>
        <p:spPr>
          <a:xfrm>
            <a:off x="2624040" y="-171360"/>
            <a:ext cx="3425760" cy="2187360"/>
          </a:xfrm>
          <a:prstGeom prst="rect">
            <a:avLst/>
          </a:prstGeom>
          <a:ln w="0">
            <a:noFill/>
          </a:ln>
        </p:spPr>
      </p:pic>
      <p:sp>
        <p:nvSpPr>
          <p:cNvPr id="71" name="Segnaposto piè di pagina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Wi-Fi</a:t>
            </a:r>
            <a:endParaRPr b="0" lang="en-US" sz="4400" spc="-1" strike="noStrike">
              <a:solidFill>
                <a:srgbClr val="575f6d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107640" y="2204640"/>
            <a:ext cx="8785080" cy="424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sieme dei dispositivi e delle tecnologie che ci permettono di fruire in modalità wireless dell’accesso a Internet in un raggio limitato (100 m. circa in assenza di ostacoli). Nato alla fine degli anni Novanta, si è largamente diffuso nel decennio success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In un punto dotato di accesso fisico a Internet viene collocato un router che è, sostanzialmente, un apparato radio-ricevente che può essere ricevuto da tutti i dispositivi (computer, smartphone, tablet, POS ecc.) presenti nell’area di ricezi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Arial"/>
              </a:rPr>
              <a:t>E’ possibile inserire una password che limita l’accesso alla rete. E’ anche possibile migliorare la copertura (ad esempio, in vari piani dello stesso edificio) sistemando più “access poin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Segnaposto piè di pagina 1"/>
          <p:cNvSpPr/>
          <p:nvPr/>
        </p:nvSpPr>
        <p:spPr>
          <a:xfrm>
            <a:off x="3132000" y="6416640"/>
            <a:ext cx="289584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Immagine 1" descr="wi-fi.png"/>
          <p:cNvPicPr/>
          <p:nvPr/>
        </p:nvPicPr>
        <p:blipFill>
          <a:blip r:embed="rId1"/>
          <a:stretch/>
        </p:blipFill>
        <p:spPr>
          <a:xfrm>
            <a:off x="611280" y="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76" name="Immagine 2" descr="wifi-hotspot.gif"/>
          <p:cNvPicPr/>
          <p:nvPr/>
        </p:nvPicPr>
        <p:blipFill>
          <a:blip r:embed="rId2"/>
          <a:stretch/>
        </p:blipFill>
        <p:spPr>
          <a:xfrm>
            <a:off x="6227640" y="0"/>
            <a:ext cx="24210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66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395280" y="620280"/>
            <a:ext cx="835344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ffff"/>
                </a:solidFill>
                <a:latin typeface="Arial"/>
              </a:rPr>
              <a:t>Wi-Fi in Ital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Il Wi-Fi in Italia fu ostacolato a lungo dal “decreto Pisanu”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 del 2005 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it-IT" sz="2400" spc="-1" strike="noStrike">
                <a:solidFill>
                  <a:srgbClr val="ffffff"/>
                </a:solidFill>
                <a:latin typeface="Calibri"/>
              </a:rPr>
              <a:t>D.L. 27 luglio 2005, n. 144, art. 7)</a:t>
            </a: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 che identificando deplorevolmente nel Wi-Fi uno strumento del terrorismo ha imposto una serie di vincoli alla sua applicazione da parte di locali pubblici, come offerta ai loro clienti, richiedendo sempre l'identificazione personale degli utilizzator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ffff"/>
                </a:solidFill>
                <a:latin typeface="Arial"/>
              </a:rPr>
              <a:t>Le conseguenze di questo dannoso e fuorviante decreto sono state cancellate definitivamente solo col “Decreto del fare” del giugno 2013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Segnaposto piè di pagina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Arial"/>
              </a:rPr>
              <a:t>© Enrico Menduni 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8T21:44:19Z</dcterms:created>
  <dc:creator>Prof. Menduni</dc:creator>
  <dc:description/>
  <dc:language>en-US</dc:language>
  <cp:lastModifiedBy>Enrico Menduni</cp:lastModifiedBy>
  <dcterms:modified xsi:type="dcterms:W3CDTF">2017-12-06T12:40:08Z</dcterms:modified>
  <cp:revision>233</cp:revision>
  <dc:subject/>
  <dc:title>Internet 1995-2000</dc:title>
</cp:coreProperties>
</file>